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BB47-0E60-48C9-A228-425379472F3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0543-E623-4A19-B721-E5C9463679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Any amino acids in excess of the biosynthetic needs of the cell are rapidly degraded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The first phase of catabolis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the removal of the α-amino groups (usually by transamination and subsequent oxidative deamination), forming ammonia and the corresponding α-keto acid—the “carbon skeletons” of amino aci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A portion of the free ammonia is excreted in the urine, but most is used in the synthesis of urea (Figure 19.1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quantitatively the most important route for disposing of nitrogen from the bo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F1B-AB8E-40AA-92D2-67179CA97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28BB-2F2E-471A-A958-071B4E315B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CB09-2393-4ACB-9218-0A714ECF0E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8E0A-41EA-4268-9279-9875A60A1D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D01F-749E-4E73-A12B-6AA07BF7ECB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F886-CEC2-4D24-9871-C60B39E5CF2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668F-1F25-495B-883D-7070AF34138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A176-F12E-4FC2-BF34-1820F9AAAD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fats and carbohydrates,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mino acids are not stored by the bod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at is, </a:t>
            </a:r>
            <a:r>
              <a:rPr b="0" lang="en-US" sz="1200" spc="-1" strike="noStrike">
                <a:solidFill>
                  <a:srgbClr val="0000ff"/>
                </a:solidFill>
                <a:latin typeface="Arial Black"/>
              </a:rPr>
              <a:t>no protein exists wh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e function is to maintain a supply of amino acids for future 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56DC-B6DE-4401-876A-1E0771FD2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1F26-C897-4782-ADC3-5C3D696B6EE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48FD-9616-44CC-8542-05E230E4AD3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652D-3B8D-4FB8-936A-67E8E6C94B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44149-F857-4459-9FD1-C30AB630E71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0774-EAB1-474D-B308-ADD1627C3F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7A73-1F28-4A73-8FFF-BBBE5B15CB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CD58-3486-474F-A9EF-8071A3FA1BC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000000"/>
                </a:solidFill>
                <a:latin typeface="Aharoni"/>
                <a:ea typeface="Aharoni"/>
              </a:rPr>
              <a:t>Overall Nitrogen Metabolism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Amino acid catabolism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 part of the larger process of the metabolism of nitrogen-containing molecul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Nitrogen enters the body in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 variety of compounds present in food, the 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most importan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ing amino acids contained in dietary protei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Nitrogen leaves the body as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ure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ammonia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othe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products derived from amino acid metabolism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Black"/>
              </a:rPr>
              <a:t>The role of body proteins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these transformations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volves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two important concepts: the 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amino acid pool </a:t>
            </a:r>
            <a:r>
              <a:rPr b="0" lang="en-US" sz="900" spc="-1" strike="noStrike">
                <a:solidFill>
                  <a:srgbClr val="0000ff"/>
                </a:solidFill>
                <a:latin typeface="Arial Black"/>
              </a:rPr>
              <a:t>and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 protein turnover</a:t>
            </a:r>
            <a:r>
              <a:rPr b="0" lang="en-US" sz="900" spc="-1" strike="noStrike">
                <a:solidFill>
                  <a:srgbClr val="ff0000"/>
                </a:solidFill>
                <a:latin typeface="Aharoni"/>
                <a:ea typeface="Aharoni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0C6D-6A5B-495E-80A4-6DBCE0B29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BD36-2565-411E-8CF6-68034638D8C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4C31-F66F-4E9E-951E-3B41EC31E0D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2E0F-30B1-482A-AFBC-1688B68104C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23E1-6A65-400A-BBC7-85FF83102F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2394-ECB0-4077-800A-F7688656279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tein turn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ny proteins,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regulation of synthes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s the concentration of protein in the cell, with protein degradation assuming a minor ro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other proteins, the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rate of synthesis is constituti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at is, relatively </a:t>
            </a:r>
            <a:r>
              <a:rPr b="0" lang="en-US" sz="1200" spc="-1" strike="noStrike">
                <a:solidFill>
                  <a:srgbClr val="0000ff"/>
                </a:solidFill>
                <a:latin typeface="Aharoni"/>
                <a:ea typeface="Aharoni"/>
              </a:rPr>
              <a:t>consta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and cellular levels of the protein are controlled by selective degrad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73E4-4E24-48D7-8A42-34ED9500D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F72A-968C-4F05-A01E-348F05B7E4C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1" lang="en-US" sz="1200" spc="-1" strike="noStrike">
                <a:solidFill>
                  <a:srgbClr val="ff0000"/>
                </a:solidFill>
                <a:latin typeface="Arial Black"/>
              </a:rPr>
              <a:t>portion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 of the free ammonia is excreted in urine </a:t>
            </a:r>
            <a:r>
              <a:rPr b="1" lang="en-US" sz="1200" spc="-1" strike="noStrike">
                <a:solidFill>
                  <a:srgbClr val="ff0000"/>
                </a:solidFill>
                <a:latin typeface="Arial Black"/>
              </a:rPr>
              <a:t>but most </a:t>
            </a: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is used in the synthesis of </a:t>
            </a:r>
            <a:r>
              <a:rPr b="1" lang="en-US" sz="1400" spc="-1" strike="noStrike">
                <a:solidFill>
                  <a:srgbClr val="ff0000"/>
                </a:solidFill>
                <a:latin typeface="Arial Black"/>
              </a:rPr>
              <a:t>u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E1EA-C751-427A-B5D0-99F490F37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113-B620-46FD-AC90-4815320C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3CD2-49BF-4B8D-948F-4AD303E7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DDB-134A-4504-BD61-3148DE64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06C8-BFA3-492C-AC83-D96EC686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CEE-1749-4752-88D8-51287297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028-2D2B-4F70-ACD6-E95CDA95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A02-4937-4EE7-9D6C-9E232BE0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F1C-4C6F-444E-AAC3-4BFDC8C0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1B49-13F3-42C4-8DC0-6B4711A7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8C13-2A4E-4178-B1B6-4F27E2F2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50A-8048-49D5-8D02-8332B185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FE18-6F0C-4D67-BAE4-DEED846E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C81F-FDA5-4D20-A67E-3673CD7C50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9640" y="1844280"/>
            <a:ext cx="8229600" cy="18716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Amino Acids Metabolism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Disposal of Nitro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66400" y="765000"/>
            <a:ext cx="82659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produced by all tissues from the catabolism of amino aci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mainly  disposed is via formation of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ure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in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Blood level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in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must be kept very low, otherwise,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hyperammonemia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&amp;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CNS toxicity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ill occ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To solve this problem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s transported from peripheral tissues to liver via formation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Glutamine (most tissu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Times New Roman"/>
              </a:rPr>
              <a:t>Alanine (muscle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289080" y="228600"/>
            <a:ext cx="8610480" cy="219708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32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phase of A. A. cataboli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haroni"/>
              </a:rPr>
              <a:t>arbon skeletons of the α-ketoacid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re converted to common intermediates of energy producing, metabolic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28600" y="3657240"/>
            <a:ext cx="8724960" cy="297180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ATP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haroni"/>
                <a:ea typeface="Aharoni"/>
              </a:rPr>
              <a:t>CO2 &amp; H2O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by Citric acid cyc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Glucose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 (by gluconeogene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Fatty Acids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from acetyl 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haroni"/>
                <a:ea typeface="Aharoni"/>
              </a:rPr>
              <a:t>Ketone Bodies </a:t>
            </a:r>
            <a:r>
              <a:rPr b="0" lang="en-US" sz="2800" spc="-1" strike="noStrike">
                <a:solidFill>
                  <a:srgbClr val="ff3300"/>
                </a:solidFill>
                <a:latin typeface="Aharoni"/>
                <a:ea typeface="Aharoni"/>
              </a:rPr>
              <a:t>(from acetyl C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6"/>
          <p:cNvSpPr/>
          <p:nvPr/>
        </p:nvSpPr>
        <p:spPr>
          <a:xfrm>
            <a:off x="4067280" y="2438280"/>
            <a:ext cx="1152360" cy="156708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20764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mino Acids Metabolism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Verdana"/>
              </a:rPr>
              <a:t>Removal of Nitrogen from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ino Acid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Removing the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-amino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Essential for producing energy from any amin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n obligatory step for the catabolism of all 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  <a:ea typeface="Verdana"/>
              </a:rPr>
              <a:t>Deamination Pathw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Amino group (nitrogen) is removed from an amino acid by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-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amination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: by transamin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-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xidative Deamination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: by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3-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deamin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71600" y="1927080"/>
            <a:ext cx="3271680" cy="4034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468360" y="3160800"/>
            <a:ext cx="59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995640" y="2421000"/>
            <a:ext cx="52563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</a:t>
            </a:r>
            <a:r>
              <a:rPr b="1" lang="en-US" sz="2400" spc="-1" strike="noStrike">
                <a:solidFill>
                  <a:srgbClr val="00b05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b050"/>
                </a:solidFill>
                <a:latin typeface="Verdana"/>
              </a:rPr>
              <a:t>-ketoglutarate</a:t>
            </a:r>
            <a:r>
              <a:rPr b="0" lang="en-US" sz="18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ccepts the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amino group from amino acids to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buClr>
                <a:srgbClr val="ff33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become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glutamate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by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    </a:t>
            </a:r>
            <a:r>
              <a:rPr b="1" lang="en-US" sz="1800" spc="-1" strike="noStrike" u="sng">
                <a:solidFill>
                  <a:srgbClr val="0070c0"/>
                </a:solidFill>
                <a:uFillTx/>
                <a:latin typeface="Verdana"/>
              </a:rPr>
              <a:t>Transaminases 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(aminotransferases)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Verdana"/>
              </a:rPr>
              <a:t>Glutamate</a:t>
            </a: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                                </a:t>
            </a:r>
            <a:r>
              <a:rPr b="0" lang="en-US" sz="1600" spc="-1" strike="noStrike">
                <a:solidFill>
                  <a:srgbClr val="0070c0"/>
                </a:solidFill>
                <a:latin typeface="Verdana"/>
              </a:rPr>
              <a:t>Glutamate dehydrogenase</a:t>
            </a:r>
            <a:r>
              <a:rPr b="0" lang="en-US" sz="1400" spc="-1" strike="noStrike">
                <a:solidFill>
                  <a:srgbClr val="0070c0"/>
                </a:solidFill>
                <a:latin typeface="Verdana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Verdana"/>
              </a:rPr>
              <a:t>       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Ammonia</a:t>
            </a:r>
            <a:r>
              <a:rPr b="0" lang="en-US" sz="2800" spc="-1" strike="noStrike">
                <a:solidFill>
                  <a:srgbClr val="00b05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 flipH="1">
            <a:off x="3059280" y="2641680"/>
            <a:ext cx="12967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 flipH="1">
            <a:off x="3068280" y="4437000"/>
            <a:ext cx="136692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68360" y="189000"/>
            <a:ext cx="8229600" cy="9936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Transa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441720" y="1268280"/>
            <a:ext cx="53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LL  Amino Acids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except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ysine &amp; threonine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own Arrow 9"/>
          <p:cNvSpPr/>
          <p:nvPr/>
        </p:nvSpPr>
        <p:spPr>
          <a:xfrm flipH="1">
            <a:off x="766800" y="5880240"/>
            <a:ext cx="106848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235440" y="626436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nergy, glucose, FAs or KB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Down Arrow 16"/>
          <p:cNvSpPr/>
          <p:nvPr/>
        </p:nvSpPr>
        <p:spPr>
          <a:xfrm>
            <a:off x="4775040" y="4818240"/>
            <a:ext cx="1373400" cy="374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468360" y="3859200"/>
            <a:ext cx="3238560" cy="459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nsamin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own Arrow 28"/>
          <p:cNvSpPr/>
          <p:nvPr/>
        </p:nvSpPr>
        <p:spPr>
          <a:xfrm flipH="1">
            <a:off x="554760" y="1906560"/>
            <a:ext cx="1070280" cy="306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wn Arrow 29"/>
          <p:cNvSpPr/>
          <p:nvPr/>
        </p:nvSpPr>
        <p:spPr>
          <a:xfrm flipH="1">
            <a:off x="4638600" y="3776760"/>
            <a:ext cx="171792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Glutamate</a:t>
            </a: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om transamination step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y enzyme Glutamate Dehydrogen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monia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              </a:t>
            </a: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-ketogluta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U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ea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used for trans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f further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 flipH="1">
            <a:off x="1835280" y="2414520"/>
            <a:ext cx="1728720" cy="4381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"/>
          <p:cNvSpPr/>
          <p:nvPr/>
        </p:nvSpPr>
        <p:spPr>
          <a:xfrm>
            <a:off x="4500720" y="2414520"/>
            <a:ext cx="1511280" cy="43812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1763640" y="3429000"/>
            <a:ext cx="0" cy="1584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6084720" y="3429000"/>
            <a:ext cx="0" cy="14400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755640" y="274680"/>
            <a:ext cx="7931160" cy="1138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-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Oxidative deamination 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by Glutamate Dehydrogen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Diagnostic Value of Plasma Aminotransf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74560" y="184464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Aminotransferases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 are normally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intracellular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Plasma contains low levels of aminotransferases</a:t>
            </a:r>
            <a:r>
              <a:rPr b="1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representing release of cellular contents during normal cell turn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Elevated plasma levels of aminotransferases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indicate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damage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to cells rich in these 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(as physical trauma or disease to tiss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Plasma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AST &amp; ALT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are of particular </a:t>
            </a:r>
            <a:r>
              <a:rPr b="1" lang="en-US" sz="2000" spc="-1" strike="noStrike" u="sng">
                <a:solidFill>
                  <a:srgbClr val="009900"/>
                </a:solidFill>
                <a:uFillTx/>
                <a:latin typeface="Verdana"/>
              </a:rPr>
              <a:t>diagnostic value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1-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liver disease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Plasma ALT &amp; AST are elevated in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nearly all liver diseases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but, particularly high in conditions that cause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cell necrosis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viral hepat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toxic inj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prolonged circulatory colla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ALT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more specific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for liver disease than 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AST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is </a:t>
            </a:r>
            <a:r>
              <a:rPr b="1" lang="en-US" sz="1800" spc="-1" strike="noStrike">
                <a:solidFill>
                  <a:srgbClr val="009900"/>
                </a:solidFill>
                <a:latin typeface="Verdana"/>
              </a:rPr>
              <a:t>more sensitive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(as liver contains a large amount of 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2-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Verdana"/>
              </a:rPr>
              <a:t>Nonhepatic disease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as:  Myocardial infar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        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Skeletal muscle dis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9900"/>
                </a:solidFill>
                <a:latin typeface="Verdana"/>
              </a:rPr>
              <a:t>These disorders can be distinguished clinically from liver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gency FB"/>
              </a:rPr>
              <a:t>Transdea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Verdana"/>
              </a:rPr>
              <a:t>►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It is combination of transamination &amp; oxidative deam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It includes the transamination of most a.as with </a:t>
            </a:r>
            <a:r>
              <a:rPr b="0" lang="el-GR" sz="2000" spc="-1" strike="noStrike">
                <a:solidFill>
                  <a:srgbClr val="009900"/>
                </a:solidFill>
                <a:latin typeface="Verdana"/>
              </a:rPr>
              <a:t>α–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keto glutarate to form glutamate then the glutamate is oxidatively deaminated reforming </a:t>
            </a:r>
            <a:r>
              <a:rPr b="0" lang="el-GR" sz="2000" spc="-1" strike="noStrike">
                <a:solidFill>
                  <a:srgbClr val="009900"/>
                </a:solidFill>
                <a:latin typeface="Verdana"/>
              </a:rPr>
              <a:t>α–</a:t>
            </a:r>
            <a:r>
              <a:rPr b="0" lang="en-US" sz="2000" spc="-1" strike="noStrike">
                <a:solidFill>
                  <a:srgbClr val="009900"/>
                </a:solidFill>
                <a:latin typeface="Verdana"/>
              </a:rPr>
              <a:t> keto glutarate and giving ammonia. This provides a pathway by which the amino group of most a.as is released in the form of ammo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914400" y="4191120"/>
            <a:ext cx="1066680" cy="45720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a50021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- a.a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80880" y="6019920"/>
            <a:ext cx="1600200" cy="53316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a50021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- keto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200400" y="4114800"/>
            <a:ext cx="2514600" cy="5335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a50021"/>
                </a:solidFill>
                <a:latin typeface="Arial"/>
              </a:rPr>
              <a:t>α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- keto glut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200400" y="6019920"/>
            <a:ext cx="2514600" cy="5331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Glutam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1979640" y="4416480"/>
            <a:ext cx="609480" cy="1981080"/>
          </a:xfrm>
          <a:custGeom>
            <a:avLst/>
            <a:gdLst>
              <a:gd name="textAreaLeft" fmla="*/ 0 w 609480"/>
              <a:gd name="textAreaRight" fmla="*/ 427680 w 609480"/>
              <a:gd name="textAreaTop" fmla="*/ 495360 h 1981080"/>
              <a:gd name="textAreaBottom" fmla="*/ 14860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2590920" y="4343400"/>
            <a:ext cx="533160" cy="2057400"/>
          </a:xfrm>
          <a:custGeom>
            <a:avLst/>
            <a:gdLst>
              <a:gd name="textAreaLeft" fmla="*/ 156600 w 533160"/>
              <a:gd name="textAreaRight" fmla="*/ 533520 w 53316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676520" y="41911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1676520" y="6095880"/>
            <a:ext cx="761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304920" y="510552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66"/>
                </a:solidFill>
                <a:latin typeface="Arial"/>
              </a:rPr>
              <a:t>Glutamate transamin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2743200" y="3962520"/>
            <a:ext cx="838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2743200" y="5867280"/>
            <a:ext cx="762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5715000" y="4343400"/>
            <a:ext cx="762120" cy="1981080"/>
          </a:xfrm>
          <a:custGeom>
            <a:avLst/>
            <a:gdLst>
              <a:gd name="textAreaLeft" fmla="*/ 0 w 762120"/>
              <a:gd name="textAreaRight" fmla="*/ 534600 w 762120"/>
              <a:gd name="textAreaTop" fmla="*/ 495360 h 1981080"/>
              <a:gd name="textAreaBottom" fmla="*/ 148608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6477120" y="4572000"/>
            <a:ext cx="380880" cy="1523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380880 h 1523880"/>
              <a:gd name="textAreaBottom" fmla="*/ 114300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6400800" y="4191120"/>
            <a:ext cx="838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5410080" y="41148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7086600" y="5867280"/>
            <a:ext cx="53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H2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6934320" y="4267080"/>
            <a:ext cx="685800" cy="381240"/>
          </a:xfrm>
          <a:prstGeom prst="rect">
            <a:avLst/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NH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7010280" y="525780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NAD(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7086600" y="4724280"/>
            <a:ext cx="1143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00"/>
                </a:solidFill>
                <a:latin typeface="Arial"/>
              </a:rPr>
              <a:t>NAD(P)</a:t>
            </a: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H+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4"/>
          <p:cNvSpPr/>
          <p:nvPr/>
        </p:nvSpPr>
        <p:spPr>
          <a:xfrm>
            <a:off x="6477120" y="4952880"/>
            <a:ext cx="533160" cy="533520"/>
          </a:xfrm>
          <a:custGeom>
            <a:avLst/>
            <a:gdLst>
              <a:gd name="textAreaLeft" fmla="*/ 156600 w 533160"/>
              <a:gd name="textAreaRight" fmla="*/ 533520 w 5331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6553080" y="4572000"/>
            <a:ext cx="838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4038480" y="5181480"/>
            <a:ext cx="2286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L-GLUTAMATE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DEHYDROGENASE ENZY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5410080" y="6019920"/>
            <a:ext cx="762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6553080" y="5867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99640" y="620280"/>
            <a:ext cx="7543800" cy="8384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Metabolism of Ammo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68000" y="1988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mmon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is produced by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ll tissues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during metabolism of a variet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com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  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Ammon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is disposed of primarily by formation of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ure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in the 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The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level of ammonia in blood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must be kept </a:t>
            </a:r>
            <a:r>
              <a:rPr b="1" lang="en-US" sz="1600" spc="-1" strike="noStrike" u="sng">
                <a:solidFill>
                  <a:srgbClr val="0000cc"/>
                </a:solidFill>
                <a:uFillTx/>
                <a:latin typeface="Verdana"/>
              </a:rPr>
              <a:t>very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Slightly elevated concentrations (</a:t>
            </a:r>
            <a:r>
              <a:rPr b="1" lang="en-US" sz="1600" spc="-1" strike="noStrike">
                <a:solidFill>
                  <a:srgbClr val="0000cc"/>
                </a:solidFill>
                <a:latin typeface="Verdana"/>
              </a:rPr>
              <a:t>hyperammonemia</a:t>
            </a:r>
            <a:r>
              <a:rPr b="0" lang="en-US" sz="1600" spc="-1" strike="noStrike">
                <a:solidFill>
                  <a:srgbClr val="0000cc"/>
                </a:solidFill>
                <a:latin typeface="Verdana"/>
              </a:rPr>
              <a:t>) are toxic to C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cc"/>
                </a:solidFill>
                <a:uFillTx/>
                <a:latin typeface="Verdana"/>
              </a:rPr>
              <a:t>So</a:t>
            </a:r>
            <a:r>
              <a:rPr b="1" lang="en-US" sz="3200" spc="-1" strike="noStrike" u="sng">
                <a:solidFill>
                  <a:srgbClr val="0000cc"/>
                </a:solidFill>
                <a:uFillTx/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There must be a mechanism by which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Ammonia is moved from peripheral tissues to the li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for disposal as u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While at the sam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Ammonia must be maintained at low levels in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Oval 3"/>
          <p:cNvGrpSpPr/>
          <p:nvPr/>
        </p:nvGrpSpPr>
        <p:grpSpPr>
          <a:xfrm>
            <a:off x="1731960" y="324000"/>
            <a:ext cx="5564160" cy="2833560"/>
            <a:chOff x="1731960" y="324000"/>
            <a:chExt cx="5564160" cy="2833560"/>
          </a:xfrm>
        </p:grpSpPr>
        <p:pic>
          <p:nvPicPr>
            <p:cNvPr id="50" name="Oval 3" descr=""/>
            <p:cNvPicPr/>
            <p:nvPr/>
          </p:nvPicPr>
          <p:blipFill>
            <a:blip r:embed="rId1"/>
            <a:stretch/>
          </p:blipFill>
          <p:spPr>
            <a:xfrm>
              <a:off x="1731960" y="324000"/>
              <a:ext cx="5564160" cy="28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49680" y="919080"/>
              <a:ext cx="3530520" cy="160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No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 Stor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of 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Amino Acids</a:t>
              </a: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Arial Black"/>
                </a:rPr>
                <a:t>in the bod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Flowchart: Alternate Process 4"/>
          <p:cNvSpPr/>
          <p:nvPr/>
        </p:nvSpPr>
        <p:spPr>
          <a:xfrm>
            <a:off x="468360" y="3048120"/>
            <a:ext cx="8207280" cy="3260520"/>
          </a:xfrm>
          <a:prstGeom prst="flowChartAlternateProcess">
            <a:avLst/>
          </a:prstGeom>
          <a:solidFill>
            <a:srgbClr val="d7f4f5"/>
          </a:soli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o, 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amino acids </a:t>
            </a: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must be obtained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i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novo synthesis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(of non-essential a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Degradation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 of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rotein (normal turno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16002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Ur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in the 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s quantitatively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most importan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disposal route for 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ea is formed in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liver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rom ammonia (urea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travels in the blood from the liver to the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kidneys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 where it is filtered to appear in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isposal of Ammonia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56944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-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G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utam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most peripheral tissues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especially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brain, sk.ms. &amp;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most peripheral tissues, glutamate binds with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by action of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e synth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th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rain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, it is the major mechanism of removal of ammonia from the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s structure provides a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nontoxic storage &amp; transport form of ammo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e is transported to blood to other organs esp. liver &amp; kidn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In the liver &amp; Kidney, glutamine is converted to ammonia &amp; glutamate by the enzym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lutaminas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692360" y="4724280"/>
            <a:ext cx="6119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3818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lan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 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skeletal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+  Pyruvate  form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anin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skeletal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lanine is transported in blood to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 liver, alanine is converted to pyruvate &amp;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mmonia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yruvate can be converted to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(by gluconeogene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luco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an enter the blood to be used by skeletal muscle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GLUCOSE - ALANINE PATHW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692360" y="3500280"/>
            <a:ext cx="59752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0" descr=""/>
          <p:cNvPicPr/>
          <p:nvPr/>
        </p:nvPicPr>
        <p:blipFill>
          <a:blip r:embed="rId1"/>
          <a:stretch/>
        </p:blipFill>
        <p:spPr>
          <a:xfrm>
            <a:off x="3924360" y="1125360"/>
            <a:ext cx="4824360" cy="5540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Disposal of Ammoni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430200" y="4869000"/>
            <a:ext cx="3260880" cy="886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lan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Skeletal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430200" y="1773360"/>
            <a:ext cx="3260880" cy="11912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lut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Most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sp. brain &amp; Kidn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430200" y="3573360"/>
            <a:ext cx="3260880" cy="8863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U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n 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86508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Verdana"/>
              </a:rPr>
              <a:t>Urea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rea is produced in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rom the liver, it is transported in the blood to th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kidney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for excretion in ur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Urea is composed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wo nit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rst nitrogen atom is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ree amm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nitrogen atom  is from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spar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rbon &amp; oxygen atoms are from 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Reactions of the Urea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398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irst two reaction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occur i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tochond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emaining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reactions occur i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yto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mmonia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Aspartate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CO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3 A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UREA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Fumarate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2 ADP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AMP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2 Pi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PPi 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+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3 H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68360" y="2708280"/>
            <a:ext cx="8424720" cy="28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 flipH="1">
            <a:off x="1042920" y="3213000"/>
            <a:ext cx="1657440" cy="1511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1042920" y="3357720"/>
            <a:ext cx="2881440" cy="13665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2987640" y="3357720"/>
            <a:ext cx="936720" cy="1439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1042920" y="3213000"/>
            <a:ext cx="4681440" cy="1511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4356000" y="3284640"/>
            <a:ext cx="237672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5508720" y="3284640"/>
            <a:ext cx="129528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 flipH="1">
            <a:off x="6372000" y="3284640"/>
            <a:ext cx="43164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6804000" y="3284640"/>
            <a:ext cx="504720" cy="1439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501480" y="5589720"/>
            <a:ext cx="839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ynthesis of urea is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rrever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high-energy phosphate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are consumed for synthesis of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n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e of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u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0328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  <a:ea typeface="Verdana"/>
              </a:rPr>
              <a:t>Overview of Urea 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  <a:ea typeface="Verdana"/>
              </a:rPr>
              <a:t>Fate of Ur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r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synthesized in the liv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l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idne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Uri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leaved by bacterial u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 stool                   Reabsorbed in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4500720" y="2492280"/>
            <a:ext cx="0" cy="289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 flipH="1">
            <a:off x="2556000" y="3141720"/>
            <a:ext cx="1800000" cy="287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4429080" y="3116160"/>
            <a:ext cx="2303640" cy="358920"/>
          </a:xfrm>
          <a:prstGeom prst="line">
            <a:avLst/>
          </a:prstGeom>
          <a:ln w="57240">
            <a:solidFill>
              <a:srgbClr val="0000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H="1">
            <a:off x="2410920" y="3933720"/>
            <a:ext cx="1800" cy="505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6659640" y="3933720"/>
            <a:ext cx="0" cy="5749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9"/>
          <p:cNvSpPr/>
          <p:nvPr/>
        </p:nvSpPr>
        <p:spPr>
          <a:xfrm flipH="1">
            <a:off x="6084720" y="4941720"/>
            <a:ext cx="648000" cy="21600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6659640" y="4941720"/>
            <a:ext cx="576360" cy="21600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 flipH="1">
            <a:off x="4932000" y="5516640"/>
            <a:ext cx="576360" cy="361800"/>
          </a:xfrm>
          <a:prstGeom prst="line">
            <a:avLst/>
          </a:prstGeom>
          <a:ln w="7632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2"/>
          <p:cNvSpPr/>
          <p:nvPr/>
        </p:nvSpPr>
        <p:spPr>
          <a:xfrm>
            <a:off x="5508720" y="5516640"/>
            <a:ext cx="1079280" cy="28872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Content Placeholder 4"/>
          <p:cNvGrpSpPr/>
          <p:nvPr/>
        </p:nvGrpSpPr>
        <p:grpSpPr>
          <a:xfrm>
            <a:off x="2139840" y="2646360"/>
            <a:ext cx="4864320" cy="2608200"/>
            <a:chOff x="2139840" y="2646360"/>
            <a:chExt cx="4864320" cy="2608200"/>
          </a:xfrm>
        </p:grpSpPr>
        <p:pic>
          <p:nvPicPr>
            <p:cNvPr id="54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2139840" y="2646360"/>
              <a:ext cx="4864320" cy="26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2901960" y="3048120"/>
              <a:ext cx="3340080" cy="17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b050"/>
                  </a:solidFill>
                  <a:latin typeface="Verdana"/>
                  <a:ea typeface="Verdana"/>
                </a:rPr>
                <a:t>Amino Acids Poo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Group 23" descr=""/>
          <p:cNvPicPr/>
          <p:nvPr/>
        </p:nvPicPr>
        <p:blipFill>
          <a:blip r:embed="rId2"/>
          <a:stretch/>
        </p:blipFill>
        <p:spPr>
          <a:xfrm>
            <a:off x="981000" y="1133640"/>
            <a:ext cx="24685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Group 22" descr=""/>
          <p:cNvPicPr/>
          <p:nvPr/>
        </p:nvPicPr>
        <p:blipFill>
          <a:blip r:embed="rId3"/>
          <a:stretch/>
        </p:blipFill>
        <p:spPr>
          <a:xfrm>
            <a:off x="3333600" y="549360"/>
            <a:ext cx="2500560" cy="265104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21"/>
          <p:cNvGrpSpPr/>
          <p:nvPr/>
        </p:nvGrpSpPr>
        <p:grpSpPr>
          <a:xfrm>
            <a:off x="5537880" y="1471680"/>
            <a:ext cx="3602880" cy="2451240"/>
            <a:chOff x="5537880" y="1471680"/>
            <a:chExt cx="3602880" cy="2451240"/>
          </a:xfrm>
        </p:grpSpPr>
        <p:sp>
          <p:nvSpPr>
            <p:cNvPr id="59" name="Notched Right Arrow 9"/>
            <p:cNvSpPr/>
            <p:nvPr/>
          </p:nvSpPr>
          <p:spPr>
            <a:xfrm rot="8643600">
              <a:off x="5611320" y="2706480"/>
              <a:ext cx="1686600" cy="797040"/>
            </a:xfrm>
            <a:custGeom>
              <a:avLst/>
              <a:gdLst>
                <a:gd name="textAreaLeft" fmla="*/ 285120 w 1686600"/>
                <a:gd name="textAreaRight" fmla="*/ 1401480 w 1686600"/>
                <a:gd name="textAreaTop" fmla="*/ 199080 h 797040"/>
                <a:gd name="textAreaBottom" fmla="*/ 597960 h 79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4292" y="5400"/>
                  </a:lnTo>
                  <a:lnTo>
                    <a:pt x="14292" y="0"/>
                  </a:lnTo>
                  <a:lnTo>
                    <a:pt x="21600" y="10800"/>
                  </a:lnTo>
                  <a:lnTo>
                    <a:pt x="14292" y="21600"/>
                  </a:lnTo>
                  <a:lnTo>
                    <a:pt x="14292" y="16200"/>
                  </a:lnTo>
                  <a:lnTo>
                    <a:pt x="0" y="16200"/>
                  </a:lnTo>
                  <a:lnTo>
                    <a:pt x="3654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Oval 15"/>
            <p:cNvGrpSpPr/>
            <p:nvPr/>
          </p:nvGrpSpPr>
          <p:grpSpPr>
            <a:xfrm>
              <a:off x="6190920" y="1471680"/>
              <a:ext cx="2949840" cy="2139840"/>
              <a:chOff x="6190920" y="1471680"/>
              <a:chExt cx="2949840" cy="2139840"/>
            </a:xfrm>
          </p:grpSpPr>
          <p:pic>
            <p:nvPicPr>
              <p:cNvPr id="61" name="Oval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6190920" y="1676520"/>
                <a:ext cx="2949840" cy="17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rot="2430000">
                <a:off x="6341760" y="2265120"/>
                <a:ext cx="2647440" cy="55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Verdana"/>
                    <a:ea typeface="Verdana"/>
                  </a:rPr>
                  <a:t>Degrad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Group 19"/>
          <p:cNvGrpSpPr/>
          <p:nvPr/>
        </p:nvGrpSpPr>
        <p:grpSpPr>
          <a:xfrm>
            <a:off x="316440" y="3771720"/>
            <a:ext cx="2751480" cy="2633760"/>
            <a:chOff x="316440" y="3771720"/>
            <a:chExt cx="2751480" cy="2633760"/>
          </a:xfrm>
        </p:grpSpPr>
        <p:sp>
          <p:nvSpPr>
            <p:cNvPr id="64" name="Notched Right Arrow 10"/>
            <p:cNvSpPr/>
            <p:nvPr/>
          </p:nvSpPr>
          <p:spPr>
            <a:xfrm rot="8671200">
              <a:off x="1504800" y="4057560"/>
              <a:ext cx="1354320" cy="1152720"/>
            </a:xfrm>
            <a:custGeom>
              <a:avLst/>
              <a:gdLst>
                <a:gd name="textAreaLeft" fmla="*/ 271080 w 1354320"/>
                <a:gd name="textAreaRight" fmla="*/ 1083240 w 1354320"/>
                <a:gd name="textAreaTop" fmla="*/ 288000 h 1152720"/>
                <a:gd name="textAreaBottom" fmla="*/ 86472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2946" y="5400"/>
                  </a:lnTo>
                  <a:lnTo>
                    <a:pt x="12946" y="0"/>
                  </a:lnTo>
                  <a:lnTo>
                    <a:pt x="21600" y="10800"/>
                  </a:lnTo>
                  <a:lnTo>
                    <a:pt x="12946" y="21600"/>
                  </a:lnTo>
                  <a:lnTo>
                    <a:pt x="12946" y="16200"/>
                  </a:lnTo>
                  <a:lnTo>
                    <a:pt x="0" y="16200"/>
                  </a:lnTo>
                  <a:lnTo>
                    <a:pt x="4327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ounded Rectangle 16"/>
            <p:cNvSpPr/>
            <p:nvPr/>
          </p:nvSpPr>
          <p:spPr>
            <a:xfrm rot="2199000">
              <a:off x="383760" y="5054400"/>
              <a:ext cx="1922760" cy="8622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0">
              <a:noFill/>
            </a:ln>
            <a:effectLst>
              <a:outerShdw dist="38160" dir="162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Protein</a:t>
              </a: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synthe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4"/>
          <p:cNvGrpSpPr/>
          <p:nvPr/>
        </p:nvGrpSpPr>
        <p:grpSpPr>
          <a:xfrm>
            <a:off x="3124080" y="4614840"/>
            <a:ext cx="2743200" cy="1970280"/>
            <a:chOff x="3124080" y="4614840"/>
            <a:chExt cx="2743200" cy="1970280"/>
          </a:xfrm>
        </p:grpSpPr>
        <p:sp>
          <p:nvSpPr>
            <p:cNvPr id="67" name="Notched Right Arrow 12"/>
            <p:cNvSpPr/>
            <p:nvPr/>
          </p:nvSpPr>
          <p:spPr>
            <a:xfrm rot="5400000">
              <a:off x="4013280" y="4526640"/>
              <a:ext cx="1046160" cy="1222200"/>
            </a:xfrm>
            <a:custGeom>
              <a:avLst/>
              <a:gdLst>
                <a:gd name="textAreaLeft" fmla="*/ 246600 w 1046160"/>
                <a:gd name="textAreaRight" fmla="*/ 799560 w 1046160"/>
                <a:gd name="textAreaTop" fmla="*/ 305640 h 1222200"/>
                <a:gd name="textAreaBottom" fmla="*/ 916920 h 122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1406" y="5400"/>
                  </a:lnTo>
                  <a:lnTo>
                    <a:pt x="11406" y="0"/>
                  </a:lnTo>
                  <a:lnTo>
                    <a:pt x="21600" y="10800"/>
                  </a:lnTo>
                  <a:lnTo>
                    <a:pt x="11406" y="21600"/>
                  </a:lnTo>
                  <a:lnTo>
                    <a:pt x="11406" y="16200"/>
                  </a:lnTo>
                  <a:lnTo>
                    <a:pt x="0" y="16200"/>
                  </a:lnTo>
                  <a:lnTo>
                    <a:pt x="5097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ounded Rectangle 17"/>
            <p:cNvSpPr/>
            <p:nvPr/>
          </p:nvSpPr>
          <p:spPr>
            <a:xfrm>
              <a:off x="3124080" y="5769000"/>
              <a:ext cx="2743200" cy="8161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0">
              <a:noFill/>
            </a:ln>
            <a:effectLst>
              <a:outerShdw dist="38160" dir="162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Other Nitogen</a:t>
              </a: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containing comp</a:t>
              </a:r>
              <a:r>
                <a:rPr b="1" lang="en-US" sz="2000" spc="-1" strike="noStrike">
                  <a:solidFill>
                    <a:srgbClr val="ff3300"/>
                  </a:solidFill>
                  <a:latin typeface="Verdana"/>
                  <a:ea typeface="Verdana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Group 20" descr=""/>
          <p:cNvPicPr/>
          <p:nvPr/>
        </p:nvPicPr>
        <p:blipFill>
          <a:blip r:embed="rId5"/>
          <a:stretch/>
        </p:blipFill>
        <p:spPr>
          <a:xfrm>
            <a:off x="6413400" y="4054320"/>
            <a:ext cx="22496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2384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yperammonemia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Increase of ammonia level of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7640" y="1412640"/>
            <a:ext cx="88995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lood Ammon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Normal level of blood ammonia is 5-50 mmol/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perammonem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 medical emergency as ammonia has a direct neurotoxic effect on C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mmonia intoxic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t is defined as toxicity of the brain due to increase in ammonia level in the systemic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his increased ammonia will be directed to </a:t>
            </a:r>
            <a:r>
              <a:rPr b="1" lang="el-GR" sz="1800" spc="-1" strike="noStrike">
                <a:solidFill>
                  <a:srgbClr val="0000cc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ketoglutarate to form glutamic acid then glutamine  leading to interference with citric acid cycle </a:t>
            </a:r>
            <a:r>
              <a:rPr b="1" lang="en-US" sz="1800" spc="-1" strike="noStrike">
                <a:solidFill>
                  <a:srgbClr val="0000cc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so decrease ATP production in the brain c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linical manifest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remors, slurring of speech, somnolence, vomiting, cerebral edema &amp; blurring of vision. At high concentrations, ammonia can cause coma &amp;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57200" y="3352680"/>
            <a:ext cx="8686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pes of Hyperammon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588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1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quired Hyperammo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1-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Liver diseases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re common causes in 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1-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cute causes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viral hepatitis, ischemia, hepatotox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2-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hronic caus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iver cirrhosis due to alcoholism, hepatitis, biliary obstruction…etc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result in the formation of collateral circulation around the 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o, portal blood is shunted directly into systemic circulation &amp; detoxicati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of ammonia to urea is markedly impa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-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</a:rPr>
              <a:t>Gatrointestinal Bl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y action of bacteria of GIT on blood urea with production of big amounts of ammonia that is absorbed to bloo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000" y="1483920"/>
            <a:ext cx="838188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ereditary Hyperammon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Genetic deficiencies can occur for each of 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ive enzymes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of the urea cycle (overall prevalence 1:300,000 live birt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rnithine transcarbamoylase (OTC) de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X-lin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ost common deficiency among all 5 enzy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ales are predominantly aff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emales carriers are clinically aff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ll other urea cycle disorders are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autosomal recessive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In each case, failure to synthesize urea leads to hyperammonemia during the first weeks following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ll inherited disorders of the urea cycle enzymes result in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ental retar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ypes of Hyperammonemi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imiting protein in d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dministration of compounds that bind covalently to amino acid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o produce nitrogen-containing molecules that are excreted in th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urine 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Phenylbutyrate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given orally converted to phenylacetate tha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ondenses  with glutamine to form phenylacetylglutamine which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excreted in ur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reatment of Hyperammon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20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Hyperammonemia in Renal 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2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Rena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bloo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levels are elev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ransfer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ure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to intestine is increase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Much amounts of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mmonia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is formed by </a:t>
            </a:r>
            <a:r>
              <a:rPr b="0" i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bacterial ur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                               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bsorbed to b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Hyperammon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To reduce hyperammonem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Oral neomycin reduces the amount of intestinal bacteri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cc"/>
                </a:solidFill>
                <a:latin typeface="Verdana"/>
              </a:rPr>
              <a:t>responsible for ammonia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4211640" y="19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5"/>
          <p:cNvSpPr/>
          <p:nvPr/>
        </p:nvSpPr>
        <p:spPr>
          <a:xfrm>
            <a:off x="4211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4211640" y="35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421164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421164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468360" y="5661000"/>
            <a:ext cx="8351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rcRect l="66886" t="0" r="0" b="0"/>
          <a:stretch/>
        </p:blipFill>
        <p:spPr>
          <a:xfrm>
            <a:off x="1042920" y="260280"/>
            <a:ext cx="66978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Verdana"/>
              </a:rPr>
              <a:t>Protein turno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14000" y="4795920"/>
            <a:ext cx="8348760" cy="151272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rmAutofit fontScale="99000"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Most proteins in the body are constantly being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synthesized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&amp; then 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Verdana"/>
              </a:rPr>
              <a:t>degraded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Verdana"/>
              </a:rPr>
              <a:t>, permitting the removal of abnormal or unneeded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own Arrow 3"/>
          <p:cNvSpPr/>
          <p:nvPr/>
        </p:nvSpPr>
        <p:spPr>
          <a:xfrm>
            <a:off x="4013280" y="1628640"/>
            <a:ext cx="772920" cy="517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468360" y="2184480"/>
            <a:ext cx="831528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Protein Degra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9840" y="1483920"/>
            <a:ext cx="8713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y Two Major Enzym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Ubiquitin-proteasome mechanis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nergy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inly for endogenous protei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proteins synthesized within the 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Lysosomes</a:t>
            </a:r>
            <a:r>
              <a:rPr b="1" lang="ar-SA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n-energy-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marily for extracellular proteins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plasma proteins that are taken into cells by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 cell surface membrane proteins: for receptor-mediated endocy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515880" y="2492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Verdana"/>
              </a:rPr>
              <a:t>Amino Acids Catabo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84320" y="198864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Unlike glucose and fatty acid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ar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not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stored by the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n excess of biosynthetic needs are degra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b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Degradation of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amino acid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involv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First Stage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Removal of </a:t>
            </a:r>
            <a:r>
              <a:rPr b="1" lang="el-GR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α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-amino group                          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mmonia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(NH</a:t>
            </a:r>
            <a:r>
              <a:rPr b="1" lang="en-US" sz="2000" spc="-1" strike="noStrike" baseline="-25000">
                <a:solidFill>
                  <a:srgbClr val="0000cc"/>
                </a:solidFill>
                <a:latin typeface="Arial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24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</a:t>
            </a:r>
            <a:r>
              <a:rPr b="1" i="1" lang="en-US" sz="2000" spc="-1" strike="noStrike" u="sng">
                <a:solidFill>
                  <a:srgbClr val="0000cc"/>
                </a:solidFill>
                <a:uFillTx/>
                <a:latin typeface="Arial"/>
                <a:ea typeface="Times New Roman"/>
              </a:rPr>
              <a:t>Second Stage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Remaining carbon skeleton                           Energy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4"/>
          <p:cNvCxnSpPr/>
          <p:nvPr/>
        </p:nvCxnSpPr>
        <p:spPr>
          <a:xfrm>
            <a:off x="4505400" y="4581000"/>
            <a:ext cx="915120" cy="252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0" name="Straight Arrow Connector 5"/>
          <p:cNvCxnSpPr/>
          <p:nvPr/>
        </p:nvCxnSpPr>
        <p:spPr>
          <a:xfrm>
            <a:off x="4530600" y="5950080"/>
            <a:ext cx="915120" cy="216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74760" y="404280"/>
            <a:ext cx="8229600" cy="1143000"/>
          </a:xfrm>
          <a:prstGeom prst="rect">
            <a:avLst/>
          </a:prstGeom>
          <a:solidFill>
            <a:srgbClr val="d7f4f5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mino Acids Catabolism -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755640" y="190440"/>
            <a:ext cx="7561440" cy="1978200"/>
          </a:xfrm>
          <a:prstGeom prst="rect">
            <a:avLst/>
          </a:prstGeom>
          <a:solidFill>
            <a:srgbClr val="d7f4f5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st phase of catabolism of amino ac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Aharoni"/>
              </a:rPr>
              <a:t>emoval of the α-amino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wn Arrow 4"/>
          <p:cNvSpPr/>
          <p:nvPr/>
        </p:nvSpPr>
        <p:spPr>
          <a:xfrm>
            <a:off x="4724280" y="1844640"/>
            <a:ext cx="2819520" cy="1432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th production of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lowchart: Alternate Process 7"/>
          <p:cNvSpPr/>
          <p:nvPr/>
        </p:nvSpPr>
        <p:spPr>
          <a:xfrm>
            <a:off x="4876920" y="3124080"/>
            <a:ext cx="2666880" cy="1447920"/>
          </a:xfrm>
          <a:prstGeom prst="flowChartAlternateProcess">
            <a:avLst/>
          </a:prstGeom>
          <a:solidFill>
            <a:srgbClr val="d7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Free Ammo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Down Arrow 8"/>
          <p:cNvSpPr/>
          <p:nvPr/>
        </p:nvSpPr>
        <p:spPr>
          <a:xfrm>
            <a:off x="4952880" y="4572000"/>
            <a:ext cx="2590920" cy="137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In Li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 Same Side Corner Rectangle 9"/>
          <p:cNvSpPr/>
          <p:nvPr/>
        </p:nvSpPr>
        <p:spPr>
          <a:xfrm>
            <a:off x="304920" y="5334120"/>
            <a:ext cx="3959280" cy="914400"/>
          </a:xfrm>
          <a:prstGeom prst="pie">
            <a:avLst/>
          </a:prstGeom>
          <a:solidFill>
            <a:srgbClr val="d6ecee"/>
          </a:solidFill>
          <a:ln w="255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Small amount excreted in 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Down Arrow 10"/>
          <p:cNvSpPr/>
          <p:nvPr/>
        </p:nvSpPr>
        <p:spPr>
          <a:xfrm rot="3538800">
            <a:off x="3997440" y="4101120"/>
            <a:ext cx="533520" cy="163044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ff33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 Same Side Corner Rectangle 11"/>
          <p:cNvSpPr/>
          <p:nvPr/>
        </p:nvSpPr>
        <p:spPr>
          <a:xfrm>
            <a:off x="4800600" y="5867280"/>
            <a:ext cx="2743200" cy="801720"/>
          </a:xfrm>
          <a:prstGeom prst="pie">
            <a:avLst/>
          </a:prstGeom>
          <a:solidFill>
            <a:srgbClr val="d7f4f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 Black"/>
              </a:rPr>
              <a:t>Ur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07:00:55Z</dcterms:created>
  <dc:creator>Sherif</dc:creator>
  <dc:description/>
  <dc:language>en-US</dc:language>
  <cp:lastModifiedBy>Jamal Younis</cp:lastModifiedBy>
  <dcterms:modified xsi:type="dcterms:W3CDTF">2016-09-29T10:43:18Z</dcterms:modified>
  <cp:revision>451</cp:revision>
  <dc:subject/>
  <dc:title>Overview</dc:title>
</cp:coreProperties>
</file>